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5983-2DE9-452F-9A0B-EDC16748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CD01-6708-4B97-B66C-44D88F28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45942-0274-49E2-8BD8-026804D2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BB5C1-0AD7-4AF9-82A8-18315876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2AA46-B7F7-4A2C-B4D8-725D7DAF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3BAF1-3DDD-439F-B395-E8A40A5D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74F0D-F80D-4130-BE95-B715FE17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5A17F-63C6-4560-9794-F7300D27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39179-0C5B-4228-96B4-1B162657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290C2-380C-4323-B688-57F0F2F0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F906E-D580-4997-9E78-F7C8F8EC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24A-8D40-4305-8CE7-E40D1826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B91-FCC7-45C1-87F0-51AEA280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8AC6-2B45-4DA4-89F5-5F9EA6C3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D3FB-0B05-4FBB-9756-2A8397B1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B007-A679-4433-9493-780A0724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1777-F58F-4FF6-988D-DE263D1F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D5BA-2E09-47A8-8C41-E4946DCF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0D9E-088B-40DE-B673-425D7125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2E05-5CC3-4EB4-A4DD-098704F3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877-6B91-4131-A76F-B151B52E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623C-56F8-4EE8-AB1C-196CF36A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E7EF-1987-42F5-B102-1BACCC37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2506-95FF-4D9F-B41D-27BB9C42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A484-6364-420B-8D18-2BFFE352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BF38-845E-4C43-B279-0CBE7847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A341-BF01-4585-AA57-CDDCC498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4C8D3-1049-44E9-8E23-05640B6C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70314-7E91-4DDB-8509-48777D74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95207-0002-4E47-8C45-B5EAA85A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B64FC-FDF7-410D-9712-8A209DB6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0F40-1BDD-45D7-BEF1-3F199DEF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2F32E-8388-4169-A7E8-4112BA20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EC4B2-B5D4-481E-AAA6-7604C9B3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E57EA-57D5-404B-9A9E-AA78503E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D1F21-29F9-488B-8D25-E8826CC3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D3E3A-44EF-4B5D-AC5D-F414537F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47B3D-1BEE-4ABC-BF28-D2BC9420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72FDE-81E4-440A-B868-F3AE09F7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89CD2-7556-4C1F-B1BC-FB561699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1D140-BE75-4CF9-AF0A-20FF2F15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1C81C-DD99-4206-A3EC-51801D03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7F1-319C-4D99-A72E-792F5155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123BF-637B-4C50-B91B-3FBA8711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017C7-A4CE-4648-A3C8-6BF49B2D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8A6FC-4F12-454D-96BF-6F553D85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BB9B3-330B-42DB-97FD-796AAED7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74B42-E7F3-4F56-A704-3E42FF77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47164-3231-409A-9692-42C7F0CF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1B4BC-FE8A-4B54-80F0-02620266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B9F1C-A38B-4016-92EF-9CE9B6FC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683E4-3E23-4E94-BB54-31CE5E5C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3DB2F-4C54-418A-983A-060158EE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600-1529-4207-89E5-6DE8F42C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B1467-11CA-4F63-B9E0-F92A9E19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8ABB7-DCE0-48DF-A146-242C2B8A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943A2-09F1-4643-BC74-E2E9BD1D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1F305-7E37-45F0-8C78-24252FF4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4541E-1DD6-47CB-9D7D-1E74934B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CB6B7-561C-42B8-BEC5-01B0267D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BEA5E-2301-42F9-AABB-39C67D69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B1E7A-B4BD-4D52-BF90-A5C8E86D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8DEA9-A1EF-4A2B-96D3-FC57FE1E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93FA2-C170-4226-A1A2-513B2B85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96B-444A-42B4-A5C3-3541D97B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FACA8-4B75-42AD-BE51-B68AE0DF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84A85-0BFF-4A3B-BE25-3FDDE1B5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D6E99-02E2-447A-A739-DE5877E0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D61DC-445D-403B-BF52-413D285D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2850F-B6E9-48AF-895D-42E20804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C9F69-B034-4C14-A62E-BE5CEF33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D47CD-1DE7-4322-BBE3-90A7AFD2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63955-2100-4F11-9218-0B8BDC37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B404B-90F6-4204-8CE3-87BF433D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B1A8B-F854-44D0-A5A2-814B3C7B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A05-445B-4E0C-85F2-2B6BDA8E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F30B1-61BD-4B19-8A6D-CDE193BD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08910-7E4B-4289-9FE6-3B0282AD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FBC26-3012-49BC-BC80-25788969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E0E49-1C38-4682-9739-F4698955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EB72F-2353-43CD-A4F5-A0729D53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5152D-F81D-4A7F-B580-CEFF2D75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2AEB7-EB71-4268-9D75-CF1C8C3D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72722-5286-468A-9C15-992A9229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5A82B-00EC-4E82-A633-20895B22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F04E9-AC41-4832-B230-244B1FD2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B21-4A5A-42F9-9E85-B12D009A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63ACB-F88B-4011-9905-9992E0ED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D24E4-BBFE-4F4F-8BBA-73D57B32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4926D-C0AB-4ECB-8840-C97E5541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F7B96-7281-4390-A938-E69C38D9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DEC6E-698E-4788-AFB9-9CB8456F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DF153-EB02-49E0-9375-B55B683C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F44A7-ECC3-4D3A-B96E-7E6266F7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8B938-8197-4D23-A099-C8904CF1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30DFC-8C08-45FA-B79D-C8FC25FC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040A5-85FC-415A-A877-42C5194E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AAD-3470-45EB-BD6E-5E422E66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BCD50-E18F-4197-A2CE-D64D3C51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C4D43-6B98-4DCD-BDAF-15446594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D437E-BD55-4197-BD75-9CAE46BD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83C69-7815-4588-A7AD-79546B5B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6D449-2755-46D4-AFA2-F4821874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0F52C-078B-42C8-AF90-D63C9134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75910-BA68-4B7D-8083-6B135799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ED93B-74AF-46A9-8114-1EAAE833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C5709-97B7-403E-9FD6-542916DA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D0655-578C-49E7-9BB0-80A92D74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889A-0696-4A15-AC71-2A669873B688}" type="slidenum"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8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6448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8B5B-52D0-4376-AD9A-6B8151A51780}" type="slidenum">
              <a:rPr b="0" lang="en-CA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0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0721-94C1-4EB5-99E4-88F7EE566DDC}" type="slidenum"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7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9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10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1"/>
            <p:cNvSpPr/>
            <p:nvPr/>
          </p:nvSpPr>
          <p:spPr>
            <a:xfrm flipH="1" flipV="1">
              <a:off x="4831920" y="34340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25A6-BA41-48B8-902E-F08CDBC7CBB9}" type="slidenum"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0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ABC9-112B-406A-BDC5-4408CFB6A398}" type="slidenum"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0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A98F-FDB0-420F-B145-D61188999192}" type="slidenum"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0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565B-CA70-41EF-98F5-0B860E737D97}" type="slidenum"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0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E222-C854-45B7-A53B-77804E15BB09}" type="slidenum"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7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9"/>
            <p:cNvSpPr/>
            <p:nvPr/>
          </p:nvSpPr>
          <p:spPr>
            <a:xfrm flipV="1">
              <a:off x="6565680" y="601560"/>
              <a:ext cx="216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0"/>
            <p:cNvSpPr/>
            <p:nvPr/>
          </p:nvSpPr>
          <p:spPr>
            <a:xfrm flipV="1">
              <a:off x="6563520" y="3613680"/>
              <a:ext cx="144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5598-2DCD-4073-A948-91C0A2C6107A}" type="slidenum">
              <a:rPr b="0" lang="en-CA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682560" y="12600"/>
            <a:ext cx="7772400" cy="23162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7416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3538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After you have written your essay, write your conclusion. In the first sentence of your last paragraph, sum up what you have written so far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Your final goal in the rest of your closing paragraph is to push your essay one step further, toward a universal truth that applies to the topic at hand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Ask yourself some of these questions as you conclude your essay: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895d1d"/>
                </a:solidFill>
                <a:latin typeface="Book Antiqua"/>
              </a:rPr>
              <a:t>Step 7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What did you learn through these realizations and experiences?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What action should an individual facing these issues take next?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How can you reconcile your experience with the rest of the world?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895d1d"/>
                </a:solidFill>
                <a:latin typeface="Book Antiqua"/>
              </a:rPr>
              <a:t>Step 7: ?’s to ask Yourself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Peer Editing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Good copy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895d1d"/>
                </a:solidFill>
                <a:latin typeface="Book Antiqua"/>
              </a:rPr>
              <a:t>Step 8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An exploration of a topic using personal thought and experienc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 </a:t>
            </a: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The goal of the reflective essay is ultimately to weave together reflections in a way that conveys a new thought to the reader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This seemingly flowing essay requires a large amount of planning and structure during preparation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895d1d"/>
                </a:solidFill>
                <a:latin typeface="Book Antiqua"/>
              </a:rPr>
              <a:t>What are Reflection Pieces?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Create your opening paragraph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Paint a picture to create a "hook" so that the reader becomes engaged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End with your thesis sentence, a cohesive springboard for the reflections to come, rather than a single point that you will prove throughout the piec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895d1d"/>
                </a:solidFill>
                <a:latin typeface="Book Antiqua"/>
              </a:rPr>
              <a:t>Step 1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343080"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Make a "mind map" on a separate sheet of paper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Draw a circle with your topic written in the center and draw lines around it, extending out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Brainstorm which personal experiences you can disclose in your essay, as well as facts or events you might include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From each specific idea, map out your thoughts and reactions.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895d1d"/>
                </a:solidFill>
                <a:latin typeface="Book Antiqua"/>
              </a:rPr>
              <a:t>Step 2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698400" y="2247480"/>
            <a:ext cx="7747200" cy="387828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895d1d"/>
                </a:solidFill>
                <a:latin typeface="Book Antiqua"/>
              </a:rPr>
              <a:t>Step 2- Mind Map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79930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Create an outline from your mind map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Select your strongest experiences and points and group them into paragraphs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Order the paragraphs in a logical way, focusing on the reflections the reader should absorb to follow the evolution of your thought.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For instance, if you are writing about grief, you would want a paragraph dealing with reactions to death to precede one that centers on coping mechanisms.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895d1d"/>
                </a:solidFill>
                <a:latin typeface="Book Antiqua"/>
              </a:rPr>
              <a:t>Step 3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Include specific personal experiences.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Any experiences you recount should be brief, but make sure they are unique and concrete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Focus your memories to a short incident or experience, rather than leaning on vagary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62626"/>
                </a:solidFill>
                <a:latin typeface="Book Antiqua"/>
              </a:rPr>
              <a:t>For instance, in an essay about personal conflict, talk about a specific heated exchange with your father, rather than the fact you simply "fight a lot."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895d1d"/>
                </a:solidFill>
                <a:latin typeface="Book Antiqua"/>
              </a:rPr>
              <a:t>Step 4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Write your essay using your outline as a guide. As you write, focus on vivid, honest language.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Keep one point or experience and its reflections to a single paragraph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895d1d"/>
                </a:solidFill>
                <a:latin typeface="Book Antiqua"/>
              </a:rPr>
              <a:t>Step 5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PROOFREAD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26"/>
                </a:solidFill>
                <a:latin typeface="Book Antiqua"/>
              </a:rPr>
              <a:t>One of the hardest parts of a reflective essay is to keep the reader tracking with your mental or emotional journey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895d1d"/>
                </a:solidFill>
                <a:latin typeface="Book Antiqua"/>
              </a:rPr>
              <a:t>Step 6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8:40:56Z</dcterms:created>
  <dc:creator>Jason</dc:creator>
  <dc:description/>
  <dc:language>en-US</dc:language>
  <cp:lastModifiedBy>Jason</cp:lastModifiedBy>
  <dcterms:modified xsi:type="dcterms:W3CDTF">2011-04-17T19:44:42Z</dcterms:modified>
  <cp:revision>2</cp:revision>
  <dc:subject/>
  <dc:title>4.2 Writing Reflective Pieces</dc:title>
</cp:coreProperties>
</file>